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261-97DC-41F0-A29D-FD3D0019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D1D-B36E-4852-BBD5-83AD134F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43C-D967-4D48-BC29-01B0BEF9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5D8-2E76-466E-834C-1040AAFF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164-BD8A-4408-98EC-DAF0D03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597-2AC7-4D36-B29C-032E843A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7A1-0F52-45BB-A4FD-971E8FD8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1A0-2099-49F8-A24E-4BD2B9D5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3FA-BB77-44BF-9AF3-E886BE22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877-CC33-4DDF-840C-9D89FF20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292-8736-4C68-A6E8-8A00A5C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AFB-E2C4-4FD5-ACF9-5E66D74A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A43-74D0-4CD5-9859-C62FA97F9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" y="963720"/>
          <a:ext cx="8888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63720"/>
                    <a:ext cx="8888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ение бюджета МО «Верхнебогатырское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2013 год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6816,3 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юджетные средства на выполнение полномоч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64,8 тыс.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040" y="1047600"/>
          <a:ext cx="8780760" cy="53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047600"/>
                    <a:ext cx="8780760" cy="53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ственные средства бюджета сельского посел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77 тыс. руб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17520" y="1866960"/>
          <a:ext cx="8607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866960"/>
                    <a:ext cx="8607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4:22:22Z</dcterms:created>
  <dc:creator>Пользователь</dc:creator>
  <dc:description/>
  <dc:language>en-US</dc:language>
  <cp:lastModifiedBy>Пользователь</cp:lastModifiedBy>
  <dcterms:modified xsi:type="dcterms:W3CDTF">2014-04-25T06:38:41Z</dcterms:modified>
  <cp:revision>7</cp:revision>
  <dc:subject/>
  <dc:title>Слайд 1</dc:title>
</cp:coreProperties>
</file>