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A2F-5E42-480A-A5EC-8217B728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CAF-2033-42BE-A26A-D7345BCD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CBF-4544-499A-84C3-16CA30A9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676-30D8-44AE-85E6-9969B11E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2E21-68E0-4F36-8BA6-E449EBAB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F37-19CA-4CAF-A472-693C1BC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E429-5C68-4ADB-8B03-E831B8C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7A0B-CB57-4D06-AC97-D09AACE4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A293-4540-4C8E-8463-F69F88DB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0092-EEA4-47AA-B953-61671CC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56D3-F51C-4A69-9F22-00842DD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50F-4EB5-443C-9F57-491E309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962-DC37-4AB9-976B-3E2A783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D2A-E51C-491D-9669-C931F50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E7AC-3EE7-4A4B-8671-B7F96B5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1107-E406-4C12-874E-432AAB11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2CF0-3DE2-41D1-98E6-E24D1462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959-57BF-4D2E-9283-2AFDA318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415-4E1D-4AA5-8757-17BC516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CB9-BAC0-44E4-BEBE-6737B62A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FCB-8711-4988-80CD-1C00DDC9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263-451E-49E5-B10A-F5366DA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1F7-A1A7-4D7D-B702-36AA2A6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B2D-E168-41DB-92BE-BD40E60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FCF-6EA8-4940-8D02-7C17473550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7A4-9D6F-4872-9708-DC3A886CFB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285"/>
          <p:cNvGraphicFramePr/>
          <p:nvPr/>
        </p:nvGraphicFramePr>
        <p:xfrm>
          <a:off x="1179360" y="1197000"/>
          <a:ext cx="68072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2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197000"/>
                    <a:ext cx="68072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Freeform 189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898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899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900"/>
          <p:cNvSpPr/>
          <p:nvPr/>
        </p:nvSpPr>
        <p:spPr>
          <a:xfrm>
            <a:off x="4716360" y="2060640"/>
            <a:ext cx="416160" cy="32220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984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985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986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987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992"/>
          <p:cNvSpPr/>
          <p:nvPr/>
        </p:nvSpPr>
        <p:spPr>
          <a:xfrm>
            <a:off x="4730760" y="2133720"/>
            <a:ext cx="32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1a17"/>
                </a:solidFill>
                <a:latin typeface="Calibri"/>
              </a:rPr>
              <a:t>Ферм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93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994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995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002"/>
          <p:cNvSpPr/>
          <p:nvPr/>
        </p:nvSpPr>
        <p:spPr>
          <a:xfrm>
            <a:off x="1713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03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04"/>
          <p:cNvSpPr/>
          <p:nvPr/>
        </p:nvSpPr>
        <p:spPr>
          <a:xfrm>
            <a:off x="4304520" y="549360"/>
            <a:ext cx="55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.Пони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56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68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172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174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175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177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182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83"/>
          <p:cNvSpPr/>
          <p:nvPr/>
        </p:nvSpPr>
        <p:spPr>
          <a:xfrm>
            <a:off x="7929720" y="1000080"/>
            <a:ext cx="10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184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185"/>
          <p:cNvSpPr/>
          <p:nvPr/>
        </p:nvSpPr>
        <p:spPr>
          <a:xfrm>
            <a:off x="7358040" y="1143000"/>
            <a:ext cx="71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186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88"/>
          <p:cNvSpPr/>
          <p:nvPr/>
        </p:nvSpPr>
        <p:spPr>
          <a:xfrm>
            <a:off x="8072280" y="1143000"/>
            <a:ext cx="50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 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191"/>
          <p:cNvSpPr/>
          <p:nvPr/>
        </p:nvSpPr>
        <p:spPr>
          <a:xfrm>
            <a:off x="8605440" y="1341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19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9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19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9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9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9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19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19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20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20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0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20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205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06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207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08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209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10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14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15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216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217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218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219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220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221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225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222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238"/>
          <p:cNvSpPr/>
          <p:nvPr/>
        </p:nvSpPr>
        <p:spPr>
          <a:xfrm>
            <a:off x="4284720" y="2997360"/>
            <a:ext cx="1800000" cy="14634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245"/>
          <p:cNvSpPr/>
          <p:nvPr/>
        </p:nvSpPr>
        <p:spPr>
          <a:xfrm>
            <a:off x="5651640" y="170028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2249"/>
          <p:cNvGrpSpPr/>
          <p:nvPr/>
        </p:nvGrpSpPr>
        <p:grpSpPr>
          <a:xfrm>
            <a:off x="6217560" y="214200"/>
            <a:ext cx="3051000" cy="232920"/>
            <a:chOff x="6217560" y="214200"/>
            <a:chExt cx="3051000" cy="232920"/>
          </a:xfrm>
        </p:grpSpPr>
        <p:sp>
          <p:nvSpPr>
            <p:cNvPr id="143" name="Rectangle 2246"/>
            <p:cNvSpPr/>
            <p:nvPr/>
          </p:nvSpPr>
          <p:spPr>
            <a:xfrm>
              <a:off x="6488280" y="214200"/>
              <a:ext cx="2780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</a:t>
              </a:r>
              <a:r>
                <a:rPr b="0" lang="ru-RU" sz="600" spc="-1" strike="noStrike">
                  <a:solidFill>
                    <a:srgbClr val="24211d"/>
                  </a:solidFill>
                  <a:latin typeface="Calibri"/>
                </a:rPr>
                <a:t> 1.</a:t>
              </a: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 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2247"/>
            <p:cNvSpPr/>
            <p:nvPr/>
          </p:nvSpPr>
          <p:spPr>
            <a:xfrm>
              <a:off x="647496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2248"/>
            <p:cNvSpPr/>
            <p:nvPr/>
          </p:nvSpPr>
          <p:spPr>
            <a:xfrm>
              <a:off x="6217560" y="355320"/>
              <a:ext cx="142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2255"/>
          <p:cNvSpPr/>
          <p:nvPr/>
        </p:nvSpPr>
        <p:spPr>
          <a:xfrm flipH="1">
            <a:off x="4928760" y="25272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56"/>
          <p:cNvSpPr/>
          <p:nvPr/>
        </p:nvSpPr>
        <p:spPr>
          <a:xfrm>
            <a:off x="4856040" y="257652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257"/>
          <p:cNvSpPr/>
          <p:nvPr/>
        </p:nvSpPr>
        <p:spPr>
          <a:xfrm flipV="1">
            <a:off x="5076720" y="249228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258"/>
          <p:cNvSpPr/>
          <p:nvPr/>
        </p:nvSpPr>
        <p:spPr>
          <a:xfrm flipH="1" flipV="1">
            <a:off x="4919760" y="2654280"/>
            <a:ext cx="15696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268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269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270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271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272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273"/>
          <p:cNvSpPr/>
          <p:nvPr/>
        </p:nvSpPr>
        <p:spPr>
          <a:xfrm>
            <a:off x="684360" y="1413000"/>
            <a:ext cx="215892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Казачук Д. 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Заводская, Пряженникова, Коммунальная, Новая, Кооперативная, Первомайская, Нагорная, Октябрьская, Садовая,  40 лет побе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274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Казачук Д.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280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2281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2282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283"/>
          <p:cNvSpPr/>
          <p:nvPr/>
        </p:nvSpPr>
        <p:spPr>
          <a:xfrm>
            <a:off x="4427640" y="314172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895121811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404"/>
          <p:cNvSpPr/>
          <p:nvPr/>
        </p:nvSpPr>
        <p:spPr>
          <a:xfrm>
            <a:off x="6300720" y="256536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405"/>
          <p:cNvSpPr/>
          <p:nvPr/>
        </p:nvSpPr>
        <p:spPr>
          <a:xfrm>
            <a:off x="395280" y="5013360"/>
            <a:ext cx="1368360" cy="1152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406"/>
          <p:cNvSpPr/>
          <p:nvPr/>
        </p:nvSpPr>
        <p:spPr>
          <a:xfrm>
            <a:off x="755640" y="5157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6408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12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6413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6414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6415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416"/>
          <p:cNvSpPr/>
          <p:nvPr/>
        </p:nvSpPr>
        <p:spPr>
          <a:xfrm>
            <a:off x="971640" y="55166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417"/>
          <p:cNvSpPr/>
          <p:nvPr/>
        </p:nvSpPr>
        <p:spPr>
          <a:xfrm flipH="1" flipV="1">
            <a:off x="1042920" y="5589720"/>
            <a:ext cx="216000" cy="71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418"/>
          <p:cNvSpPr/>
          <p:nvPr/>
        </p:nvSpPr>
        <p:spPr>
          <a:xfrm flipH="1">
            <a:off x="1035000" y="5373720"/>
            <a:ext cx="223920" cy="128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6419"/>
          <p:cNvSpPr/>
          <p:nvPr/>
        </p:nvSpPr>
        <p:spPr>
          <a:xfrm flipV="1">
            <a:off x="1258920" y="5373720"/>
            <a:ext cx="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420"/>
          <p:cNvSpPr/>
          <p:nvPr/>
        </p:nvSpPr>
        <p:spPr>
          <a:xfrm>
            <a:off x="3924360" y="90792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Понин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4:30Z</dcterms:modified>
  <cp:revision>24</cp:revision>
  <dc:subject/>
  <dc:title>Презентация PowerPoint</dc:title>
</cp:coreProperties>
</file>