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0C19-9FB6-43E8-BC27-0DFBEA26C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D40D-65EE-479A-9304-5478D937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4162-15D8-4861-9A55-4C746FB1D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64C3-67FA-4AF6-9EAA-7E42C6CA5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DCD2-0C3B-4918-8B1B-2FAE2478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01C7-38D0-44AB-A8F2-811FE711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85AB-9FC3-4935-BE68-8F5C01FA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E25A-F3F2-483B-8BBD-F867B545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D924-7F68-4EAD-8409-CD55621CA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ABD3-281B-47B5-9F7F-984214C4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B4C6-ACFB-48DD-A781-55E22D9A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B779-7224-43D2-B0D0-61D21273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98CC-C8EC-4F24-8FAF-1C42255DEA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Рисунок4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13"/>
          <p:cNvGrpSpPr/>
          <p:nvPr/>
        </p:nvGrpSpPr>
        <p:grpSpPr>
          <a:xfrm>
            <a:off x="4876920" y="4648320"/>
            <a:ext cx="304560" cy="304200"/>
            <a:chOff x="4876920" y="4648320"/>
            <a:chExt cx="304560" cy="304200"/>
          </a:xfrm>
        </p:grpSpPr>
        <p:grpSp>
          <p:nvGrpSpPr>
            <p:cNvPr id="43" name="Group 12"/>
            <p:cNvGrpSpPr/>
            <p:nvPr/>
          </p:nvGrpSpPr>
          <p:grpSpPr>
            <a:xfrm>
              <a:off x="4876920" y="4648320"/>
              <a:ext cx="304560" cy="190440"/>
              <a:chOff x="4876920" y="4648320"/>
              <a:chExt cx="304560" cy="190440"/>
            </a:xfrm>
          </p:grpSpPr>
          <p:sp>
            <p:nvSpPr>
              <p:cNvPr id="44" name="Oval 10"/>
              <p:cNvSpPr/>
              <p:nvPr/>
            </p:nvSpPr>
            <p:spPr>
              <a:xfrm>
                <a:off x="4920120" y="4648320"/>
                <a:ext cx="217800" cy="1522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Rectangle 11"/>
              <p:cNvSpPr/>
              <p:nvPr/>
            </p:nvSpPr>
            <p:spPr>
              <a:xfrm>
                <a:off x="4876920" y="4724640"/>
                <a:ext cx="304560" cy="11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" name="Rectangle 8"/>
            <p:cNvSpPr/>
            <p:nvPr/>
          </p:nvSpPr>
          <p:spPr>
            <a:xfrm>
              <a:off x="4920120" y="4724280"/>
              <a:ext cx="217800" cy="76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AutoShape 9"/>
            <p:cNvSpPr/>
            <p:nvPr/>
          </p:nvSpPr>
          <p:spPr>
            <a:xfrm rot="10800000">
              <a:off x="4919760" y="4800240"/>
              <a:ext cx="217800" cy="152280"/>
            </a:xfrm>
            <a:custGeom>
              <a:avLst/>
              <a:gdLst>
                <a:gd name="textAreaLeft" fmla="*/ 53280 w 217800"/>
                <a:gd name="textAreaRight" fmla="*/ 164520 w 217800"/>
                <a:gd name="textAreaTop" fmla="*/ 37080 h 152280"/>
                <a:gd name="textAreaBottom" fmla="*/ 11520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 rot="10800000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" name="Group 17"/>
          <p:cNvGrpSpPr/>
          <p:nvPr/>
        </p:nvGrpSpPr>
        <p:grpSpPr>
          <a:xfrm>
            <a:off x="5715000" y="4800600"/>
            <a:ext cx="304920" cy="304560"/>
            <a:chOff x="5715000" y="4800600"/>
            <a:chExt cx="304920" cy="304560"/>
          </a:xfrm>
        </p:grpSpPr>
        <p:grpSp>
          <p:nvGrpSpPr>
            <p:cNvPr id="49" name="Group 18"/>
            <p:cNvGrpSpPr/>
            <p:nvPr/>
          </p:nvGrpSpPr>
          <p:grpSpPr>
            <a:xfrm>
              <a:off x="5715000" y="4800600"/>
              <a:ext cx="304920" cy="190440"/>
              <a:chOff x="5715000" y="4800600"/>
              <a:chExt cx="304920" cy="190440"/>
            </a:xfrm>
          </p:grpSpPr>
          <p:sp>
            <p:nvSpPr>
              <p:cNvPr id="50" name="Oval 19"/>
              <p:cNvSpPr/>
              <p:nvPr/>
            </p:nvSpPr>
            <p:spPr>
              <a:xfrm>
                <a:off x="5758200" y="4800600"/>
                <a:ext cx="217800" cy="1522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20"/>
              <p:cNvSpPr/>
              <p:nvPr/>
            </p:nvSpPr>
            <p:spPr>
              <a:xfrm>
                <a:off x="5715000" y="4876920"/>
                <a:ext cx="304920" cy="11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Rectangle 21"/>
            <p:cNvSpPr/>
            <p:nvPr/>
          </p:nvSpPr>
          <p:spPr>
            <a:xfrm>
              <a:off x="5758200" y="4876560"/>
              <a:ext cx="217800" cy="76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AutoShape 22"/>
            <p:cNvSpPr/>
            <p:nvPr/>
          </p:nvSpPr>
          <p:spPr>
            <a:xfrm rot="10800000">
              <a:off x="5757840" y="4952880"/>
              <a:ext cx="217800" cy="152280"/>
            </a:xfrm>
            <a:custGeom>
              <a:avLst/>
              <a:gdLst>
                <a:gd name="textAreaLeft" fmla="*/ 53280 w 217800"/>
                <a:gd name="textAreaRight" fmla="*/ 164520 w 217800"/>
                <a:gd name="textAreaTop" fmla="*/ 37080 h 152280"/>
                <a:gd name="textAreaBottom" fmla="*/ 11520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 rot="10800000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Group 23"/>
          <p:cNvGrpSpPr/>
          <p:nvPr/>
        </p:nvGrpSpPr>
        <p:grpSpPr>
          <a:xfrm>
            <a:off x="380880" y="4114800"/>
            <a:ext cx="304920" cy="304560"/>
            <a:chOff x="380880" y="4114800"/>
            <a:chExt cx="304920" cy="304560"/>
          </a:xfrm>
        </p:grpSpPr>
        <p:grpSp>
          <p:nvGrpSpPr>
            <p:cNvPr id="55" name="Group 24"/>
            <p:cNvGrpSpPr/>
            <p:nvPr/>
          </p:nvGrpSpPr>
          <p:grpSpPr>
            <a:xfrm>
              <a:off x="380880" y="4114800"/>
              <a:ext cx="304920" cy="190440"/>
              <a:chOff x="380880" y="4114800"/>
              <a:chExt cx="304920" cy="190440"/>
            </a:xfrm>
          </p:grpSpPr>
          <p:sp>
            <p:nvSpPr>
              <p:cNvPr id="56" name="Oval 25"/>
              <p:cNvSpPr/>
              <p:nvPr/>
            </p:nvSpPr>
            <p:spPr>
              <a:xfrm>
                <a:off x="424080" y="4114800"/>
                <a:ext cx="217800" cy="1522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26"/>
              <p:cNvSpPr/>
              <p:nvPr/>
            </p:nvSpPr>
            <p:spPr>
              <a:xfrm>
                <a:off x="380880" y="4191120"/>
                <a:ext cx="304920" cy="11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Rectangle 27"/>
            <p:cNvSpPr/>
            <p:nvPr/>
          </p:nvSpPr>
          <p:spPr>
            <a:xfrm>
              <a:off x="424080" y="4190760"/>
              <a:ext cx="217800" cy="76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AutoShape 28"/>
            <p:cNvSpPr/>
            <p:nvPr/>
          </p:nvSpPr>
          <p:spPr>
            <a:xfrm rot="10800000">
              <a:off x="423720" y="4267080"/>
              <a:ext cx="217800" cy="152280"/>
            </a:xfrm>
            <a:custGeom>
              <a:avLst/>
              <a:gdLst>
                <a:gd name="textAreaLeft" fmla="*/ 53280 w 217800"/>
                <a:gd name="textAreaRight" fmla="*/ 164520 w 217800"/>
                <a:gd name="textAreaTop" fmla="*/ 37080 h 152280"/>
                <a:gd name="textAreaBottom" fmla="*/ 11520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 rot="10800000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Прямоугольник 5"/>
          <p:cNvSpPr/>
          <p:nvPr/>
        </p:nvSpPr>
        <p:spPr>
          <a:xfrm>
            <a:off x="0" y="0"/>
            <a:ext cx="9144000" cy="13953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закрепления секторов оповещения и информирования населения МО «Глазовский район»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лужбами экстренного реагирования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77"/>
          <p:cNvSpPr/>
          <p:nvPr/>
        </p:nvSpPr>
        <p:spPr>
          <a:xfrm>
            <a:off x="6172200" y="0"/>
            <a:ext cx="2971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е №  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Положению о своевременном оповещении и информировании населения муниципального образования «Глазовский район» 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угрозе возникновения или возникновении чрезвычайных ситуаций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 17 сентября 2015 года   №118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09"/>
          <p:cNvSpPr/>
          <p:nvPr/>
        </p:nvSpPr>
        <p:spPr>
          <a:xfrm>
            <a:off x="304920" y="1905120"/>
            <a:ext cx="1828800" cy="1600200"/>
          </a:xfrm>
          <a:prstGeom prst="wedgeRectCallout">
            <a:avLst>
              <a:gd name="adj1" fmla="val 92013"/>
              <a:gd name="adj2" fmla="val 35745"/>
            </a:avLst>
          </a:prstGeom>
          <a:solidFill>
            <a:srgbClr val="ffff00"/>
          </a:solidFill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Зона ответственности оповещения отдела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ММО МВД РФ «Глазовский»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Должностное лицо, ответственное за выделение транспортных средств Коломиец Юрий Геннадьевич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8-919-916-82-97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61"/>
          <p:cNvSpPr/>
          <p:nvPr/>
        </p:nvSpPr>
        <p:spPr>
          <a:xfrm>
            <a:off x="7010280" y="5411880"/>
            <a:ext cx="2133720" cy="1446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63"/>
          <p:cNvSpPr/>
          <p:nvPr/>
        </p:nvSpPr>
        <p:spPr>
          <a:xfrm>
            <a:off x="7010280" y="5410080"/>
            <a:ext cx="21337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ые обозначения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7775280" y="6095880"/>
            <a:ext cx="11167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лектросирена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121"/>
          <p:cNvGrpSpPr/>
          <p:nvPr/>
        </p:nvGrpSpPr>
        <p:grpSpPr>
          <a:xfrm>
            <a:off x="7391520" y="6095880"/>
            <a:ext cx="228600" cy="263520"/>
            <a:chOff x="7391520" y="6095880"/>
            <a:chExt cx="228600" cy="263520"/>
          </a:xfrm>
        </p:grpSpPr>
        <p:grpSp>
          <p:nvGrpSpPr>
            <p:cNvPr id="67" name="Group 88"/>
            <p:cNvGrpSpPr/>
            <p:nvPr/>
          </p:nvGrpSpPr>
          <p:grpSpPr>
            <a:xfrm>
              <a:off x="7391520" y="6095880"/>
              <a:ext cx="228600" cy="164520"/>
              <a:chOff x="7391520" y="6095880"/>
              <a:chExt cx="228600" cy="164520"/>
            </a:xfrm>
          </p:grpSpPr>
          <p:sp>
            <p:nvSpPr>
              <p:cNvPr id="68" name="Oval 89"/>
              <p:cNvSpPr/>
              <p:nvPr/>
            </p:nvSpPr>
            <p:spPr>
              <a:xfrm>
                <a:off x="7423920" y="6095880"/>
                <a:ext cx="163440" cy="1317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Rectangle 90"/>
              <p:cNvSpPr/>
              <p:nvPr/>
            </p:nvSpPr>
            <p:spPr>
              <a:xfrm>
                <a:off x="7391520" y="6161760"/>
                <a:ext cx="228600" cy="9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Rectangle 91"/>
            <p:cNvSpPr/>
            <p:nvPr/>
          </p:nvSpPr>
          <p:spPr>
            <a:xfrm>
              <a:off x="7424640" y="6162480"/>
              <a:ext cx="162000" cy="65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AutoShape 92"/>
            <p:cNvSpPr/>
            <p:nvPr/>
          </p:nvSpPr>
          <p:spPr>
            <a:xfrm rot="10800000">
              <a:off x="7424640" y="6227640"/>
              <a:ext cx="162000" cy="131760"/>
            </a:xfrm>
            <a:custGeom>
              <a:avLst/>
              <a:gdLst>
                <a:gd name="textAreaLeft" fmla="*/ 39600 w 162000"/>
                <a:gd name="textAreaRight" fmla="*/ 122400 w 162000"/>
                <a:gd name="textAreaTop" fmla="*/ 31680 h 131760"/>
                <a:gd name="textAreaBottom" fmla="*/ 10008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23"/>
          <p:cNvGrpSpPr/>
          <p:nvPr/>
        </p:nvGrpSpPr>
        <p:grpSpPr>
          <a:xfrm>
            <a:off x="2819520" y="5943600"/>
            <a:ext cx="304560" cy="304560"/>
            <a:chOff x="2819520" y="5943600"/>
            <a:chExt cx="304560" cy="304560"/>
          </a:xfrm>
        </p:grpSpPr>
        <p:grpSp>
          <p:nvGrpSpPr>
            <p:cNvPr id="73" name="Group 24"/>
            <p:cNvGrpSpPr/>
            <p:nvPr/>
          </p:nvGrpSpPr>
          <p:grpSpPr>
            <a:xfrm>
              <a:off x="2819520" y="5943600"/>
              <a:ext cx="304560" cy="190440"/>
              <a:chOff x="2819520" y="5943600"/>
              <a:chExt cx="304560" cy="190440"/>
            </a:xfrm>
          </p:grpSpPr>
          <p:sp>
            <p:nvSpPr>
              <p:cNvPr id="74" name="Oval 25"/>
              <p:cNvSpPr/>
              <p:nvPr/>
            </p:nvSpPr>
            <p:spPr>
              <a:xfrm>
                <a:off x="2862720" y="5943600"/>
                <a:ext cx="217800" cy="1522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Rectangle 26"/>
              <p:cNvSpPr/>
              <p:nvPr/>
            </p:nvSpPr>
            <p:spPr>
              <a:xfrm>
                <a:off x="2819520" y="6019920"/>
                <a:ext cx="304560" cy="114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Rectangle 27"/>
            <p:cNvSpPr/>
            <p:nvPr/>
          </p:nvSpPr>
          <p:spPr>
            <a:xfrm>
              <a:off x="2862720" y="6019560"/>
              <a:ext cx="217800" cy="76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AutoShape 28"/>
            <p:cNvSpPr/>
            <p:nvPr/>
          </p:nvSpPr>
          <p:spPr>
            <a:xfrm rot="10800000">
              <a:off x="2862360" y="6095880"/>
              <a:ext cx="217800" cy="152280"/>
            </a:xfrm>
            <a:custGeom>
              <a:avLst/>
              <a:gdLst>
                <a:gd name="textAreaLeft" fmla="*/ 53280 w 217800"/>
                <a:gd name="textAreaRight" fmla="*/ 164520 w 217800"/>
                <a:gd name="textAreaTop" fmla="*/ 37080 h 152280"/>
                <a:gd name="textAreaBottom" fmla="*/ 11520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 rot="10800000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AutoShape 108"/>
          <p:cNvSpPr/>
          <p:nvPr/>
        </p:nvSpPr>
        <p:spPr>
          <a:xfrm>
            <a:off x="609480" y="4648320"/>
            <a:ext cx="1828800" cy="1704960"/>
          </a:xfrm>
          <a:prstGeom prst="wedgeRectCallout">
            <a:avLst>
              <a:gd name="adj1" fmla="val 107291"/>
              <a:gd name="adj2" fmla="val -45810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Зона ответственности оповещения БУЗ УР «Глазовская РБ МЗ УР»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Должностное лицо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ответственное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за выделение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транспортных средств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Овсянников Михаил Евгеньевич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8-912-874-62-15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6"/>
          <p:cNvSpPr/>
          <p:nvPr/>
        </p:nvSpPr>
        <p:spPr>
          <a:xfrm>
            <a:off x="7391520" y="2819520"/>
            <a:ext cx="1493640" cy="1676160"/>
          </a:xfrm>
          <a:prstGeom prst="wedgeRectCallout">
            <a:avLst>
              <a:gd name="adj1" fmla="val -186027"/>
              <a:gd name="adj2" fmla="val 40435"/>
            </a:avLst>
          </a:prstGeom>
          <a:solidFill>
            <a:srgbClr val="ffff0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Зона ответственности оповещения ПЧ-17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Должностное лицо, ответственное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за выделение транспортных средств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Данилов Алексей Евгеньевич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8-912-855-13-02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590920" y="5481720"/>
          <a:ext cx="4286160" cy="1377720"/>
        </p:xfrm>
        <a:graphic>
          <a:graphicData uri="http://schemas.openxmlformats.org/drawingml/2006/table">
            <a:tbl>
              <a:tblPr/>
              <a:tblGrid>
                <a:gridCol w="355320"/>
                <a:gridCol w="1771920"/>
                <a:gridCol w="780840"/>
                <a:gridCol w="765360"/>
                <a:gridCol w="612720"/>
              </a:tblGrid>
              <a:tr h="456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службы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ки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жил.домов, СЗО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населения (чел.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МО МВД РФ «Глазовский»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0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0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З УР  «Глазовская РБ МЗ УР»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45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разделение ГПС (ПЧ-17)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29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0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29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46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81" name="Group 17"/>
          <p:cNvGrpSpPr/>
          <p:nvPr/>
        </p:nvGrpSpPr>
        <p:grpSpPr>
          <a:xfrm>
            <a:off x="3505320" y="4857840"/>
            <a:ext cx="304560" cy="228240"/>
            <a:chOff x="3505320" y="4857840"/>
            <a:chExt cx="304560" cy="228240"/>
          </a:xfrm>
        </p:grpSpPr>
        <p:sp>
          <p:nvSpPr>
            <p:cNvPr id="82" name="Rectangle 20"/>
            <p:cNvSpPr/>
            <p:nvPr/>
          </p:nvSpPr>
          <p:spPr>
            <a:xfrm>
              <a:off x="3505320" y="4857840"/>
              <a:ext cx="30456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21"/>
            <p:cNvSpPr/>
            <p:nvPr/>
          </p:nvSpPr>
          <p:spPr>
            <a:xfrm>
              <a:off x="3548520" y="4857840"/>
              <a:ext cx="217800" cy="76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AutoShape 22"/>
            <p:cNvSpPr/>
            <p:nvPr/>
          </p:nvSpPr>
          <p:spPr>
            <a:xfrm rot="10800000">
              <a:off x="3548160" y="4933800"/>
              <a:ext cx="217800" cy="152280"/>
            </a:xfrm>
            <a:custGeom>
              <a:avLst/>
              <a:gdLst>
                <a:gd name="textAreaLeft" fmla="*/ 53280 w 217800"/>
                <a:gd name="textAreaRight" fmla="*/ 164520 w 217800"/>
                <a:gd name="textAreaTop" fmla="*/ 37080 h 152280"/>
                <a:gd name="textAreaBottom" fmla="*/ 11520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 rot="10800000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Group 17"/>
          <p:cNvGrpSpPr/>
          <p:nvPr/>
        </p:nvGrpSpPr>
        <p:grpSpPr>
          <a:xfrm>
            <a:off x="7353360" y="5791320"/>
            <a:ext cx="304920" cy="228240"/>
            <a:chOff x="7353360" y="5791320"/>
            <a:chExt cx="304920" cy="228240"/>
          </a:xfrm>
        </p:grpSpPr>
        <p:sp>
          <p:nvSpPr>
            <p:cNvPr id="86" name="Rectangle 20"/>
            <p:cNvSpPr/>
            <p:nvPr/>
          </p:nvSpPr>
          <p:spPr>
            <a:xfrm>
              <a:off x="7353360" y="5791320"/>
              <a:ext cx="30492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7396560" y="5791320"/>
              <a:ext cx="217800" cy="76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AutoShape 22"/>
            <p:cNvSpPr/>
            <p:nvPr/>
          </p:nvSpPr>
          <p:spPr>
            <a:xfrm rot="10800000">
              <a:off x="7396200" y="5867280"/>
              <a:ext cx="217800" cy="152280"/>
            </a:xfrm>
            <a:custGeom>
              <a:avLst/>
              <a:gdLst>
                <a:gd name="textAreaLeft" fmla="*/ 53280 w 217800"/>
                <a:gd name="textAreaRight" fmla="*/ 164520 w 217800"/>
                <a:gd name="textAreaTop" fmla="*/ 37080 h 152280"/>
                <a:gd name="textAreaBottom" fmla="*/ 11520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 rot="10800000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Text Box 81"/>
          <p:cNvSpPr/>
          <p:nvPr/>
        </p:nvSpPr>
        <p:spPr>
          <a:xfrm>
            <a:off x="7760160" y="5775480"/>
            <a:ext cx="131940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ромкоговоритель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17"/>
          <p:cNvGrpSpPr/>
          <p:nvPr/>
        </p:nvGrpSpPr>
        <p:grpSpPr>
          <a:xfrm>
            <a:off x="5334120" y="3429000"/>
            <a:ext cx="304560" cy="228240"/>
            <a:chOff x="5334120" y="3429000"/>
            <a:chExt cx="304560" cy="228240"/>
          </a:xfrm>
        </p:grpSpPr>
        <p:sp>
          <p:nvSpPr>
            <p:cNvPr id="91" name="Rectangle 20"/>
            <p:cNvSpPr/>
            <p:nvPr/>
          </p:nvSpPr>
          <p:spPr>
            <a:xfrm>
              <a:off x="5334120" y="3429000"/>
              <a:ext cx="30456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Rectangle 21"/>
            <p:cNvSpPr/>
            <p:nvPr/>
          </p:nvSpPr>
          <p:spPr>
            <a:xfrm>
              <a:off x="5377320" y="3429000"/>
              <a:ext cx="217800" cy="76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AutoShape 22"/>
            <p:cNvSpPr/>
            <p:nvPr/>
          </p:nvSpPr>
          <p:spPr>
            <a:xfrm rot="10800000">
              <a:off x="5376960" y="3504960"/>
              <a:ext cx="217800" cy="152280"/>
            </a:xfrm>
            <a:custGeom>
              <a:avLst/>
              <a:gdLst>
                <a:gd name="textAreaLeft" fmla="*/ 53280 w 217800"/>
                <a:gd name="textAreaRight" fmla="*/ 164520 w 217800"/>
                <a:gd name="textAreaTop" fmla="*/ 37080 h 152280"/>
                <a:gd name="textAreaBottom" fmla="*/ 11520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 rot="10800000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17"/>
          <p:cNvGrpSpPr/>
          <p:nvPr/>
        </p:nvGrpSpPr>
        <p:grpSpPr>
          <a:xfrm>
            <a:off x="1752480" y="3581280"/>
            <a:ext cx="304920" cy="228240"/>
            <a:chOff x="1752480" y="3581280"/>
            <a:chExt cx="304920" cy="228240"/>
          </a:xfrm>
        </p:grpSpPr>
        <p:sp>
          <p:nvSpPr>
            <p:cNvPr id="95" name="Rectangle 20"/>
            <p:cNvSpPr/>
            <p:nvPr/>
          </p:nvSpPr>
          <p:spPr>
            <a:xfrm>
              <a:off x="1752480" y="3581280"/>
              <a:ext cx="30492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Rectangle 21"/>
            <p:cNvSpPr/>
            <p:nvPr/>
          </p:nvSpPr>
          <p:spPr>
            <a:xfrm>
              <a:off x="1795680" y="3581280"/>
              <a:ext cx="217800" cy="76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AutoShape 22"/>
            <p:cNvSpPr/>
            <p:nvPr/>
          </p:nvSpPr>
          <p:spPr>
            <a:xfrm rot="10800000">
              <a:off x="1795320" y="3657240"/>
              <a:ext cx="217800" cy="152280"/>
            </a:xfrm>
            <a:custGeom>
              <a:avLst/>
              <a:gdLst>
                <a:gd name="textAreaLeft" fmla="*/ 53280 w 217800"/>
                <a:gd name="textAreaRight" fmla="*/ 164520 w 217800"/>
                <a:gd name="textAreaTop" fmla="*/ 37080 h 152280"/>
                <a:gd name="textAreaBottom" fmla="*/ 11520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 rot="10800000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Group 17"/>
          <p:cNvGrpSpPr/>
          <p:nvPr/>
        </p:nvGrpSpPr>
        <p:grpSpPr>
          <a:xfrm>
            <a:off x="3662280" y="3162240"/>
            <a:ext cx="304920" cy="228240"/>
            <a:chOff x="3662280" y="3162240"/>
            <a:chExt cx="304920" cy="228240"/>
          </a:xfrm>
        </p:grpSpPr>
        <p:sp>
          <p:nvSpPr>
            <p:cNvPr id="99" name="Rectangle 20"/>
            <p:cNvSpPr/>
            <p:nvPr/>
          </p:nvSpPr>
          <p:spPr>
            <a:xfrm>
              <a:off x="3662280" y="3162240"/>
              <a:ext cx="304920" cy="114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21"/>
            <p:cNvSpPr/>
            <p:nvPr/>
          </p:nvSpPr>
          <p:spPr>
            <a:xfrm>
              <a:off x="3705480" y="3162240"/>
              <a:ext cx="217800" cy="763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AutoShape 22"/>
            <p:cNvSpPr/>
            <p:nvPr/>
          </p:nvSpPr>
          <p:spPr>
            <a:xfrm rot="10800000">
              <a:off x="3705120" y="3238200"/>
              <a:ext cx="217800" cy="152280"/>
            </a:xfrm>
            <a:custGeom>
              <a:avLst/>
              <a:gdLst>
                <a:gd name="textAreaLeft" fmla="*/ 53280 w 217800"/>
                <a:gd name="textAreaRight" fmla="*/ 164520 w 217800"/>
                <a:gd name="textAreaTop" fmla="*/ 37080 h 152280"/>
                <a:gd name="textAreaBottom" fmla="*/ 115200 h 15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 rot="10800000">
              <a:noAutofit/>
            </a:bodyPr>
            <a:p>
              <a:endParaRPr b="1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5-09-16T11:49:57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