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3.png" ContentType="image/png"/>
  <Override PartName="/ppt/media/image27.jpeg" ContentType="image/jpeg"/>
  <Override PartName="/ppt/media/image13.wmf" ContentType="image/x-wmf"/>
  <Override PartName="/ppt/media/image29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2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9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8.jpeg" ContentType="image/jpeg"/>
  <Override PartName="/ppt/media/image23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2D21-F0AE-4F25-AE15-BC4F7B9091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49BD-CABE-4966-96C7-E20F462A24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DA66-65BA-44B9-AD3B-357AD8DE97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4A2-1305-4773-817A-A049F481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B71-E9A9-4901-A213-6390A56B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4C418-1977-4FD4-B49E-39608D6C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EC006-119A-4202-9EED-7B8A96B1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0C687-DC68-4D51-B3B3-D48CC2FB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474A2-3156-443F-9BAC-704EAE2E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43ACF-2B39-4F4E-B9D7-D75E37B8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ED290-FC33-4E1C-8F45-1A357CB6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F9292-2064-4614-A385-86CDD2D7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A423D-DC25-41CD-9A98-9898A808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7DA37-B5B1-47FC-859C-FCBE42C6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8747E-EB1A-49F0-AE26-FAC91377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B2A-4336-46E6-82D4-AFEF6E78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8FFC5-9B40-47F6-9C7A-B3112D12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2C548-86B4-4818-A438-9E9716D5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15F9F-0724-4615-B23E-2A8419EA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4A5DB-71C4-4921-9DAD-B9BE8459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D78ED-7F44-4197-AB03-76F71CCA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CE6F0-7CF4-48EE-B306-5E141FE7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ECA0E-A78C-44C7-93FF-3D7B43E7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40C23-C563-4F33-BD86-58C2B5AA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948AC-DD58-4160-BBC2-2A3018B2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E4489-0C12-4455-9BF1-E9AFA9E4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51D-B8A0-4D02-8581-A3EDB3BB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5CC16-FF91-4296-B552-064F2F7D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8E266-B79F-4EF5-B4E4-67960C97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991BB-3884-4A6B-8F37-A7927DF2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BCE38-3996-4353-BC9E-D7C693D7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92D5C-3E66-4010-8E90-96905BAE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05C86-C3ED-4BB2-8C99-BF393E12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A9CE1-6E04-4EB2-A1AB-F1FA1470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627ED-2CF9-472A-A194-4D4AFE23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53EBD-A615-42E7-9E66-2760A7EE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20A8A-52C0-4F92-A21D-09D19FE3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22FF-DF11-4740-81E0-DBFA3BF1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10BCD-2C0F-4C8A-9192-F4E668B0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C9B88-5F0C-4FFB-AA50-02248A76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BC565-DC4B-47AA-B447-AF6C2922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6FE4-B249-450D-A0F7-44ACB053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1ED2-0097-4964-BCE9-861622CC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26C7-75A9-417E-B30F-59C0E1E2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554F-2AA7-4681-A74D-C31D8B78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7A8B-003B-43E1-980F-53EC2D19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7888-7C67-4B41-B63B-D1444F1B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892-1FCC-499B-82A7-CF37E370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E783-78CC-4972-9CA0-1DEB5DD3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5E28-A8E4-4359-930B-BCE4A5ED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4142-8B16-4DC4-B678-1181F3A4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2CF6-9CD1-43E1-81E5-B0C7E93E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1336-2D4D-4270-A6B3-512157B4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02090-B8D7-4087-9A3A-11AC9115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6F09-8A5F-4AEF-9EDB-D2966C2E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38992-2D5D-4B2B-B0A3-96F1874F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CB42-731E-4075-A1B0-44A27006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01927-2FFF-44E1-881F-3E183CF4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65C-870D-4E4E-BAE2-3F6134AB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451F7-844A-458C-909E-911C72A4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1AE6B-6DEB-49D0-A7BB-DD03C367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53A97-68E6-4687-848B-9B284445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EDE18-985E-4B7B-8638-B304327F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1C719-66FC-4DE4-9F30-4B9C0489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673BD-41E4-4B2A-83A5-53A4D052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6D81A-10D5-4100-83A6-B08CCB77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BADEC-D851-4802-8F70-364DB82C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38A6D-4132-450A-A3C4-6FCC3694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1EDB-3BC0-4303-93B7-FE54A788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C3F-9E30-4C95-8066-07AC9108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4B612-E418-4F6F-BE6E-4CE10F1F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D5804-8D05-4051-827D-F93512F3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F03AC-44DE-4846-A4EA-801C05EE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BD61A-32F4-4100-8EA1-0EB924F9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7821-C48E-4F0B-B6CF-2704517A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21A3D-92F5-4B8E-9F38-7DD1F96D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AB3CB-FADA-4307-8B26-EA77433E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C44A7-0CD4-4184-AE99-C1C1A1D9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4EEC9-8146-42C0-B6F2-A1142E62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4D051-DDCD-4F6B-94E1-A25BFDE8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E25-08FB-4636-8396-4AFEA256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01F43-14FC-4252-ABAC-FF93B97D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E0624-18DB-4A71-8A9C-102C653D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F7FD0-AE38-42A6-964D-D64FD691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F7E8A-567A-42BB-8753-67D7FD29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D1F6B-1BF3-4029-B242-7DED33B3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4B52D-3030-4304-822F-E6D24408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58509-3603-4B5E-987C-A1E73521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EBB3D-ED2B-40C3-9398-A0337177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E6F3D-5ACD-4DAB-A9E1-BD5D94C4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BA548-930B-4AA3-A4EF-5496FEF5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43C-9C1C-4BA3-B978-7B14CCCC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4080F-E87C-4EDB-AE85-1DD7D01C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45110-63FA-4EF8-8E3A-794D6C7C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C42B5-CFC5-4524-A61C-796700F7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03A09-0D27-4CAC-915E-241C76A5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D3A1F-772E-4A5F-A081-966816C1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F1235-09EA-4A19-B814-063AF22C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3A7B3-D86C-40FF-A2F3-79368AB8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31F07-D857-4E12-9D8C-5C230A36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AE3D4-1492-4E30-B8A6-3EA51F69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0732B-D8F7-4B4F-B3A1-73407F11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861-2E7E-49E4-AFD0-AFC12FD0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BFEA1-26E0-463A-8E74-05344DB6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FC6DE-3D34-4D77-BA1D-04101A9C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0AB8C-DDF0-40FD-9DBF-4527EBFE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42D1F-13FD-460B-BCA5-FD94C4D2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1AAE0-3198-4CE7-9A34-CB5F58FE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53E32-3CFD-456C-B940-AC1A9D4B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6A72C-D7E7-4105-908C-184AA39C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D5D96-1746-4449-A693-2C244469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0F192-D417-4CF2-8EE3-928DC608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08E76-1671-4D83-B463-94719868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506-76CD-4C93-B4D5-51BCADF1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84FAE-7C6F-4E59-B729-6C7759F1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A9FEE-DC5C-43E3-A011-A485FFA4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7C8B2-AAA8-4091-98D5-1B19051F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1F9D3-5EFE-4867-BC2C-603B43C8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711CC-C67C-4377-A4AE-A8BFD410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04730-52F0-462C-9874-6085A536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BEDAA-851E-4118-AB95-66FC802C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FA87F-932A-46B3-914C-C845F825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F5F28-328B-4F7E-852E-29486231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7FABC-5A7C-449B-B6FE-AE74DF3B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6DE-3530-4FE0-84DB-F709A90F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9F24E-9A62-472A-87B3-5B2F05BD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03D83-555E-464E-94B4-8F6D353D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F7666-D6DA-40DC-ACCE-D5C8CEF3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B0570-B1FA-4406-9CDA-94B8248A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3768E-9895-4DE5-8C25-C4223215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987CA-F90C-4456-B94D-EF6129F4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07532-108C-48EE-858F-496CA03E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5B854-52C6-4E73-91C2-98C85372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CC623-E7AF-4BDA-AD3D-F478E2AB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6A006-CEA8-41DC-B165-6CBF054D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796A-42F5-48AD-9DB9-04F2AB69E2E8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3B67-27E7-47F1-A98B-2DD8DF636FB4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F1AF-3D5F-4922-8C48-C59D597D5E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7F7E-95BB-4E2D-9FE0-5A7C96B6E9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DCB4-6238-4ACE-BA35-9CE33C4BFCE7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C6A3-C0BD-43AD-A400-499241265C4F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4127-A4CC-4AB2-995B-BAAD84E44050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4874-75F2-4F5E-80A8-37BDD4CC58A9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20C5-B79C-4956-83FF-8C147B178EA3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1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22FA-2340-4CAB-BB72-337EF05332CD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1352-7CFD-41E5-B1BA-65E78E35053D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785484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60000"/>
                </a:solidFill>
                <a:latin typeface="Franklin Gothic Medium"/>
              </a:rPr>
              <a:t>ПРОИЗВОДСТВЕННЫЕ  И ФИНАНСОВО-ЭКОНОМИЧЕСКИЕ ПОКАЗАТЕЛИ СЕЛЬХОЗПРЕДПРИЯТИЙ  МУНИЦИПАЛЬНОГО ОБРАЗОВАНИЯ  «ГЛАЗОВСКИЙ РАЙОН»</a:t>
            </a:r>
            <a:br>
              <a:rPr sz="2700"/>
            </a:br>
            <a:r>
              <a:rPr b="0" lang="ru-RU" sz="2700" spc="-1" strike="noStrike">
                <a:solidFill>
                  <a:srgbClr val="760000"/>
                </a:solidFill>
                <a:latin typeface="Franklin Gothic Medium"/>
              </a:rPr>
              <a:t>ЗА 2014- 2016 ГОДЫ </a:t>
            </a:r>
            <a:endParaRPr b="0" lang="en-US" sz="27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4FA3-94C9-4E31-A7A7-1E3C86E10045}" type="slidenum">
              <a:rPr b="0" lang="ru-RU" sz="1200" spc="-1" strike="noStrike">
                <a:solidFill>
                  <a:srgbClr val="a2355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C:\Documents and Settings\Администратор\Рабочий стол\glazov3.jpg"/>
          <p:cNvPicPr/>
          <p:nvPr/>
        </p:nvPicPr>
        <p:blipFill>
          <a:blip r:embed="rId1"/>
          <a:stretch/>
        </p:blipFill>
        <p:spPr>
          <a:xfrm>
            <a:off x="6429240" y="357120"/>
            <a:ext cx="242892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85520" y="-21456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52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872C-A032-4071-9C81-9960124BAE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Диаграмма 4"/>
          <p:cNvGraphicFramePr/>
          <p:nvPr/>
        </p:nvGraphicFramePr>
        <p:xfrm>
          <a:off x="642960" y="928800"/>
          <a:ext cx="7454880" cy="5073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4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928800"/>
                    <a:ext cx="745488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реализации молока  в предприятия переработки в 2016 году, 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Object 4" descr=""/>
          <p:cNvPicPr/>
          <p:nvPr/>
        </p:nvPicPr>
        <p:blipFill>
          <a:blip r:embed="rId2"/>
          <a:stretch/>
        </p:blipFill>
        <p:spPr>
          <a:xfrm>
            <a:off x="434880" y="1650960"/>
            <a:ext cx="8004240" cy="42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обретение техники                   в 2016 го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920" y="3141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К «Кожильски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Объект 7" descr=""/>
          <p:cNvPicPr/>
          <p:nvPr/>
        </p:nvPicPr>
        <p:blipFill>
          <a:blip r:embed="rId1"/>
          <a:stretch/>
        </p:blipFill>
        <p:spPr>
          <a:xfrm>
            <a:off x="0" y="3767040"/>
            <a:ext cx="5473800" cy="30798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516360" y="42922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К «Коммуна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Объект 8" descr=""/>
          <p:cNvPicPr/>
          <p:nvPr/>
        </p:nvPicPr>
        <p:blipFill>
          <a:blip r:embed="rId2"/>
          <a:stretch/>
        </p:blipFill>
        <p:spPr>
          <a:xfrm>
            <a:off x="5221440" y="1628640"/>
            <a:ext cx="3922560" cy="2938680"/>
          </a:xfrm>
          <a:prstGeom prst="rect">
            <a:avLst/>
          </a:prstGeom>
          <a:ln w="0">
            <a:noFill/>
          </a:ln>
        </p:spPr>
      </p:pic>
      <p:sp>
        <p:nvSpPr>
          <p:cNvPr id="53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DEB6-8A26-443C-A47F-9A806C996F7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оительство животноводческих помещений в 2016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24000" y="48686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ОО «Чур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Объект 7" descr=""/>
          <p:cNvPicPr/>
          <p:nvPr/>
        </p:nvPicPr>
        <p:blipFill>
          <a:blip r:embed="rId1"/>
          <a:stretch/>
        </p:blipFill>
        <p:spPr>
          <a:xfrm>
            <a:off x="0" y="1341360"/>
            <a:ext cx="4978440" cy="3733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435640" y="2707920"/>
            <a:ext cx="3168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К «Коммуна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Объект 8" descr=""/>
          <p:cNvPicPr/>
          <p:nvPr/>
        </p:nvPicPr>
        <p:blipFill>
          <a:blip r:embed="rId2"/>
          <a:stretch/>
        </p:blipFill>
        <p:spPr>
          <a:xfrm>
            <a:off x="4664160" y="3284640"/>
            <a:ext cx="4479840" cy="3360600"/>
          </a:xfrm>
          <a:prstGeom prst="rect">
            <a:avLst/>
          </a:prstGeom>
          <a:ln w="0">
            <a:noFill/>
          </a:ln>
        </p:spPr>
      </p:pic>
      <p:sp>
        <p:nvSpPr>
          <p:cNvPr id="53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3AD1-49F5-46F2-BC00-2BC4D1FD6A7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85520" y="-21456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льское хозяй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F812-DDCA-4DB8-AD40-3E08AC3946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Диаграмма 4"/>
          <p:cNvGraphicFramePr/>
          <p:nvPr/>
        </p:nvGraphicFramePr>
        <p:xfrm>
          <a:off x="971640" y="1413000"/>
          <a:ext cx="7459560" cy="4335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4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413000"/>
                    <a:ext cx="745956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A2E6-CEA7-4C9B-91C9-391029704CE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Диаграмма 4"/>
          <p:cNvGraphicFramePr/>
          <p:nvPr/>
        </p:nvGraphicFramePr>
        <p:xfrm>
          <a:off x="1187280" y="1268280"/>
          <a:ext cx="7459920" cy="4335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8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268280"/>
                    <a:ext cx="745992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85520" y="-21456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50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1CE9-0B5D-44FB-9EC1-82724EAAAB1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Диаграмма 4"/>
          <p:cNvGraphicFramePr/>
          <p:nvPr/>
        </p:nvGraphicFramePr>
        <p:xfrm>
          <a:off x="785880" y="1000080"/>
          <a:ext cx="75880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02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000080"/>
                    <a:ext cx="75880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ьный вес выручки от продажи молока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и КРС в ж.весе, зерна и прочей продукции в общем объеме выручки в 2016 году,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4" name="Object 4"/>
          <p:cNvGraphicFramePr/>
          <p:nvPr/>
        </p:nvGraphicFramePr>
        <p:xfrm>
          <a:off x="755640" y="1897200"/>
          <a:ext cx="7624800" cy="3932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0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897200"/>
                    <a:ext cx="762480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85520" y="-21456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50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B6D4-B213-470D-86BB-BDF55803E13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Диаграмма 4"/>
          <p:cNvGraphicFramePr/>
          <p:nvPr/>
        </p:nvGraphicFramePr>
        <p:xfrm>
          <a:off x="785880" y="1000080"/>
          <a:ext cx="75880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09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000080"/>
                    <a:ext cx="75880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месячная заработная плата, рубл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Object 4"/>
          <p:cNvGraphicFramePr/>
          <p:nvPr/>
        </p:nvGraphicFramePr>
        <p:xfrm>
          <a:off x="-181080" y="907920"/>
          <a:ext cx="9239400" cy="562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81080" y="907920"/>
                    <a:ext cx="92394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одительность труда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ыс. рублей на 1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1562-D0D7-4B5C-8576-58ED07A2D21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2"/>
          <p:cNvGraphicFramePr/>
          <p:nvPr/>
        </p:nvGraphicFramePr>
        <p:xfrm>
          <a:off x="30240" y="944640"/>
          <a:ext cx="9234360" cy="5786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240" y="944640"/>
                    <a:ext cx="9234360" cy="57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85520" y="-21456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2060"/>
              </a:solidFill>
              <a:latin typeface="Times New Roman"/>
              <a:ea typeface="Times New Roman"/>
            </a:endParaRPr>
          </a:p>
        </p:txBody>
      </p:sp>
      <p:sp>
        <p:nvSpPr>
          <p:cNvPr id="51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1DB3-2AB7-4529-B164-B24DA6D6C79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Диаграмма 4"/>
          <p:cNvGraphicFramePr/>
          <p:nvPr/>
        </p:nvGraphicFramePr>
        <p:xfrm>
          <a:off x="785880" y="1000080"/>
          <a:ext cx="75880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0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5880" y="1000080"/>
                    <a:ext cx="75880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9:20:04Z</dcterms:created>
  <dc:creator>Administrator</dc:creator>
  <dc:description/>
  <dc:language>en-US</dc:language>
  <cp:lastModifiedBy>Пльзователь</cp:lastModifiedBy>
  <dcterms:modified xsi:type="dcterms:W3CDTF">2017-02-13T11:49:04Z</dcterms:modified>
  <cp:revision>344</cp:revision>
  <dc:subject/>
  <dc:title>Программа социально-экономического развития муниципального образования  «Муйский район» на 2008-2010 годы и на период до 2017 года</dc:title>
</cp:coreProperties>
</file>